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A8F5-EE0F-4438-9133-30CDE179A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R/1L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6DF7-09C2-4BC7-B853-43B3D701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15C-3560-4C02-825A-E5B9C30C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DCC-FA08-489A-AD4D-C15CAD21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044-AFAC-40DB-8848-D869C49B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B7B-14B9-435D-8AC5-5E19D498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228-4E1F-497A-9409-B7390913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AB7-E7CC-446A-998B-C6400C19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E6E-B837-4D71-858E-2CA3C1B9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C94-76FD-4C05-A544-2867BDE7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F3B-2426-4262-8DAB-93D9A473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D32-157A-4387-9C91-D8C0343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B2C-A8CA-47FF-9D24-32C05796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F11F-3EB2-4BB0-8608-3D1027414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 rot="16200000">
            <a:off x="761040" y="27691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D 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"/>
          <p:cNvPicPr/>
          <p:nvPr/>
        </p:nvPicPr>
        <p:blipFill>
          <a:blip r:embed="rId1"/>
          <a:stretch/>
        </p:blipFill>
        <p:spPr>
          <a:xfrm>
            <a:off x="1006560" y="2558880"/>
            <a:ext cx="603000" cy="565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5"/>
          <p:cNvSpPr/>
          <p:nvPr/>
        </p:nvSpPr>
        <p:spPr>
          <a:xfrm>
            <a:off x="1051200" y="256068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1779480" y="2549520"/>
            <a:ext cx="592200" cy="593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7"/>
          <p:cNvSpPr/>
          <p:nvPr/>
        </p:nvSpPr>
        <p:spPr>
          <a:xfrm>
            <a:off x="1737000" y="257796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.4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1333440" y="314316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1" descr=""/>
          <p:cNvPicPr/>
          <p:nvPr/>
        </p:nvPicPr>
        <p:blipFill>
          <a:blip r:embed="rId3"/>
          <a:stretch/>
        </p:blipFill>
        <p:spPr>
          <a:xfrm>
            <a:off x="542880" y="905040"/>
            <a:ext cx="188604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1:08:13Z</dcterms:created>
  <dc:creator>Madhu Gowda</dc:creator>
  <dc:description/>
  <dc:language>en-US</dc:language>
  <cp:lastModifiedBy>mmanjili</cp:lastModifiedBy>
  <dcterms:modified xsi:type="dcterms:W3CDTF">2011-10-05T15:57:47Z</dcterms:modified>
  <cp:revision>103</cp:revision>
  <dc:subject/>
  <dc:title>Slide 1</dc:title>
</cp:coreProperties>
</file>