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B5166-FF58-4262-B801-50E0CC7DAD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HR/1L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C475-4F0B-4D47-9B6C-AFB456ECF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590A-852A-404C-B2C1-01B00F769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1B7A-D271-4ADE-86E1-4A05A3433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6A39-466A-4AAB-A9F2-D3C90B0A8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28E5-DF9F-4A1D-9A96-644536626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5008-C7B7-4EDC-B192-2847731CF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7A89-787A-436B-B72E-BF36CF03E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1F7B-10EE-4A42-999F-B5819C9CF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FBB0-3EEA-4599-81FC-9BBA5B17E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FB92-159C-446F-A95C-8FB53A05E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187F-5384-4FF0-830B-9B5F6594C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79FF-4FE4-4030-B8C7-84D8753DC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C63A3-5723-4F7E-93B0-C0F1123937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3"/>
          <p:cNvSpPr/>
          <p:nvPr/>
        </p:nvSpPr>
        <p:spPr>
          <a:xfrm rot="16200000">
            <a:off x="761040" y="2769120"/>
            <a:ext cx="288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D 3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4" descr=""/>
          <p:cNvPicPr/>
          <p:nvPr/>
        </p:nvPicPr>
        <p:blipFill>
          <a:blip r:embed="rId1"/>
          <a:stretch/>
        </p:blipFill>
        <p:spPr>
          <a:xfrm>
            <a:off x="1006560" y="2558880"/>
            <a:ext cx="603000" cy="5652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5"/>
          <p:cNvSpPr/>
          <p:nvPr/>
        </p:nvSpPr>
        <p:spPr>
          <a:xfrm>
            <a:off x="1051200" y="2560680"/>
            <a:ext cx="148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%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6" descr=""/>
          <p:cNvPicPr/>
          <p:nvPr/>
        </p:nvPicPr>
        <p:blipFill>
          <a:blip r:embed="rId2"/>
          <a:stretch/>
        </p:blipFill>
        <p:spPr>
          <a:xfrm>
            <a:off x="1779480" y="2549520"/>
            <a:ext cx="592200" cy="59364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17"/>
          <p:cNvSpPr/>
          <p:nvPr/>
        </p:nvSpPr>
        <p:spPr>
          <a:xfrm>
            <a:off x="1737000" y="2577960"/>
            <a:ext cx="2901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1.4%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9"/>
          <p:cNvSpPr/>
          <p:nvPr/>
        </p:nvSpPr>
        <p:spPr>
          <a:xfrm>
            <a:off x="1333440" y="3143160"/>
            <a:ext cx="704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1" descr=""/>
          <p:cNvPicPr/>
          <p:nvPr/>
        </p:nvPicPr>
        <p:blipFill>
          <a:blip r:embed="rId3"/>
          <a:stretch/>
        </p:blipFill>
        <p:spPr>
          <a:xfrm>
            <a:off x="542880" y="905040"/>
            <a:ext cx="1886040" cy="163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5T01:08:13Z</dcterms:created>
  <dc:creator>Madhu Gowda</dc:creator>
  <dc:description/>
  <dc:language>en-US</dc:language>
  <cp:lastModifiedBy>mmanjili</cp:lastModifiedBy>
  <dcterms:modified xsi:type="dcterms:W3CDTF">2011-10-05T15:57:47Z</dcterms:modified>
  <cp:revision>103</cp:revision>
  <dc:subject/>
  <dc:title>Slide 1</dc:title>
</cp:coreProperties>
</file>