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95F72-82FE-4665-A17A-6AC453D484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HR/1L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C62E-4BDA-4C83-94C1-01C5E2F0B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FAB3-E749-4054-83C7-684E6EB75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1AE6-81B4-4559-9B5A-1D1D197AB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F18D-7B42-4BCA-92A5-39F88513A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79F2-2FE3-4F9E-8109-CF38EC0C1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F038-B2FD-4E4E-9FDC-875BA8AB8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F50F-7013-4C73-BF77-9F540B8F4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7DF9-FC77-444F-93D7-CFFA95CD2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D182-56ED-42DB-B0F0-5AE6A47E3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86AB-6142-4F4A-9AD1-5FCA6090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A67D-796C-4FC9-B2E8-079923BA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B450-2E77-4779-B69D-39C57334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C3AB4-AC71-4FBA-B993-FA0DCDEF2D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3"/>
          <p:cNvSpPr/>
          <p:nvPr/>
        </p:nvSpPr>
        <p:spPr>
          <a:xfrm rot="16200000">
            <a:off x="761040" y="2769120"/>
            <a:ext cx="28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D 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4" descr=""/>
          <p:cNvPicPr/>
          <p:nvPr/>
        </p:nvPicPr>
        <p:blipFill>
          <a:blip r:embed="rId1"/>
          <a:stretch/>
        </p:blipFill>
        <p:spPr>
          <a:xfrm>
            <a:off x="1006560" y="2558880"/>
            <a:ext cx="603000" cy="5652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5"/>
          <p:cNvSpPr/>
          <p:nvPr/>
        </p:nvSpPr>
        <p:spPr>
          <a:xfrm>
            <a:off x="1051200" y="256068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6" descr=""/>
          <p:cNvPicPr/>
          <p:nvPr/>
        </p:nvPicPr>
        <p:blipFill>
          <a:blip r:embed="rId2"/>
          <a:stretch/>
        </p:blipFill>
        <p:spPr>
          <a:xfrm>
            <a:off x="1779480" y="2549520"/>
            <a:ext cx="592200" cy="5936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7"/>
          <p:cNvSpPr/>
          <p:nvPr/>
        </p:nvSpPr>
        <p:spPr>
          <a:xfrm>
            <a:off x="1737000" y="2577960"/>
            <a:ext cx="290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.4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9"/>
          <p:cNvSpPr/>
          <p:nvPr/>
        </p:nvSpPr>
        <p:spPr>
          <a:xfrm>
            <a:off x="1333440" y="3143160"/>
            <a:ext cx="704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1" descr=""/>
          <p:cNvPicPr/>
          <p:nvPr/>
        </p:nvPicPr>
        <p:blipFill>
          <a:blip r:embed="rId3"/>
          <a:stretch/>
        </p:blipFill>
        <p:spPr>
          <a:xfrm>
            <a:off x="542880" y="905040"/>
            <a:ext cx="1886040" cy="163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01:08:13Z</dcterms:created>
  <dc:creator>Madhu Gowda</dc:creator>
  <dc:description/>
  <dc:language>en-US</dc:language>
  <cp:lastModifiedBy>mmanjili</cp:lastModifiedBy>
  <dcterms:modified xsi:type="dcterms:W3CDTF">2011-10-05T15:57:47Z</dcterms:modified>
  <cp:revision>103</cp:revision>
  <dc:subject/>
  <dc:title>Slide 1</dc:title>
</cp:coreProperties>
</file>